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DE9-523E-461E-BB8D-DA4CB11B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912-6741-4643-871D-357F5056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AC3-5A30-4D24-84ED-8E037A1F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EDF-1D9A-4B0A-983E-B8255130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69C3-7026-4604-B4C0-6F4E4101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7C19-F11E-45B0-BDD8-A23C1AA5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890A-8013-4201-A1E4-5AA2ED90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2E28-89AC-49D0-914A-4AFAFDE4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C193-979B-4AA7-99C4-AFE9FEE4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5018-70E7-44EC-812E-3EA5E304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09E5-6AE8-4620-8E2F-247F21B8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E53-32EE-46CC-9B17-89153E83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C346-43ED-4C99-B5CB-212143CD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BEC8-C1F2-4B9D-89DE-AA3DF184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7332-2DAC-4D4F-BBC5-FA8BB886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FEC9-E749-489D-A38B-1DDC84B5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1699-2790-4D5E-96C8-9358A530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7D5-4680-459A-A10E-A91BADBE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059-E4E3-4B8A-B707-05A85ACF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12C-2903-4768-BAFB-1B5C257E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076-31C3-476D-8A31-325CB09E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EEA-F59C-4F94-8470-100AC9C8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114-6CEE-47D4-8626-1509D1BA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208-61F8-4CD0-ACBA-8EFEFA49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2EDA-1E11-4901-987B-8F43FF7AFBD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3FA3-DF58-4770-B642-0096F53A504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50states.com/Texas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hyperlink" Target="http://bensguide.gpo.gov/3-5/state/texas.html" TargetMode="Externa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523880" y="1905120"/>
            <a:ext cx="51818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exa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7086600" y="152280"/>
            <a:ext cx="2057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rlos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mputer # 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191120" y="380880"/>
            <a:ext cx="21333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50 states,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 Black"/>
              </a:rPr>
              <a:t>Texas song,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10/7/10,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www.50states.com/Texa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ate Name: Tex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ate Capital: Aust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pulation:20,851,82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ntered the Union: December 24 , 1845 (28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th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tto: Friendshi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ickname: Lone Star St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lower: Blue Bonne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ird: Mocking Bir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ng: Texas ,Our Texa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934320" y="2819520"/>
            <a:ext cx="1728720" cy="19810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5867280" y="52578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858000" y="49528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563868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Texas: Map and State Flag"/>
          <p:cNvPicPr/>
          <p:nvPr/>
        </p:nvPicPr>
        <p:blipFill>
          <a:blip r:embed="rId1"/>
          <a:srcRect l="0" t="35833" r="-4058" b="0"/>
          <a:stretch/>
        </p:blipFill>
        <p:spPr>
          <a:xfrm>
            <a:off x="4267080" y="3048120"/>
            <a:ext cx="3657600" cy="30844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Texas: Map and State Flag"/>
          <p:cNvPicPr/>
          <p:nvPr/>
        </p:nvPicPr>
        <p:blipFill>
          <a:blip r:embed="rId2"/>
          <a:srcRect l="10200" t="0" r="0" b="65675"/>
          <a:stretch/>
        </p:blipFill>
        <p:spPr>
          <a:xfrm>
            <a:off x="762120" y="1219320"/>
            <a:ext cx="3352680" cy="17524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066680" y="39988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4648320"/>
            <a:ext cx="44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en’s Guide to U.S.  Government, Quick Facts Texas 22 September 2010,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http://bensguide.gpo.gov/3-5/state/texas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86600" y="1905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5334120" y="914400"/>
            <a:ext cx="18190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3 0.046 -0.16647 0.113 -0.1718 C 0.177 -0.17846 0.237 -0.11853 0.241 -0.03196 C 0.246 0.04794 0.204 0.12252 0.144 0.12785 C 0.089 0.13185 0.037 0.08257 0.033 0.00799 C 0.029 -0.05993 0.064 -0.12386 0.115 -0.12918 C 0.162 -0.13318 0.206 -0.09189 0.209 -0.0293 C 0.212 0.02664 0.184 0.08124 0.142 0.0839 C 0.104 0.0879 0.068 0.05594 0.065 0.00533 C 0.063 -0.03995 0.084 -0.0839 0.117 -0.08657 C 0.146 -0.08923 0.175 -0.06526 0.177 -0.02664 C 0.179 0.00666 0.164 0.03862 0.14 0.04129 C 0.12 0.04395 0.099 0.0293 0.098 0.00266 C 0.096 -0.01865 0.104 -0.04129 0.119 -0.04395 C 0.131 -0.04395 0.143 -0.03862 0.145 -0.02397 C 0.146 -0.01465 0.144 -0.00533 0.138 -0.00133 C 0.135 0 0.133 0 0.13 -0.00133 E">
                                      <p:cBhvr>
                                        <p:cTn id="77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All images Copyright © 1997 - 2000 WriteLine. All Rights Reserved. Texas State Capitol"/>
          <p:cNvPicPr/>
          <p:nvPr/>
        </p:nvPicPr>
        <p:blipFill>
          <a:blip r:embed="rId1"/>
          <a:stretch/>
        </p:blipFill>
        <p:spPr>
          <a:xfrm>
            <a:off x="0" y="83808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All images Copyright © 1997 - 2000 WriteLine. All Rights Reserved. Spanish Mission, American Fort"/>
          <p:cNvPicPr/>
          <p:nvPr/>
        </p:nvPicPr>
        <p:blipFill>
          <a:blip r:embed="rId2"/>
          <a:stretch/>
        </p:blipFill>
        <p:spPr>
          <a:xfrm>
            <a:off x="4800600" y="609480"/>
            <a:ext cx="4114800" cy="3429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343400" y="453240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38480" y="43434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The Alamo-San Antonio, Texas, http://www.postcardsfrom.com/t1/990208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43434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5391000"/>
            <a:ext cx="3809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he Alamo is one of Texas most famous places to visit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40Z</dcterms:created>
  <dc:creator>install</dc:creator>
  <dc:description/>
  <dc:language>en-US</dc:language>
  <cp:lastModifiedBy>install</cp:lastModifiedBy>
  <dcterms:modified xsi:type="dcterms:W3CDTF">2010-10-14T13:19:47Z</dcterms:modified>
  <cp:revision>11</cp:revision>
  <dc:subject/>
  <dc:title>Slide 1</dc:title>
</cp:coreProperties>
</file>